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7BD-9A64-4DE6-BF72-F0F5CB7C2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DE9-B80D-4BB9-965D-9010FE40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8D-1C88-40ED-A296-2BE99D76D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7B2-5DFD-41A2-87D2-12C9C4DF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AB2-417F-46D0-B314-2523FAAF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A19-873D-4D32-B4B3-8D048110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F46-FF8B-4F9C-9352-68F6B99F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D3B-FFA0-43FB-B2D2-037679CE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B5DE-998F-44CC-935A-BB9855B9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AD5-39F2-48E9-85AC-403FD3DC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F92-3067-4AEB-A090-DC9DEFE2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CF6-8CDB-4F7B-8B45-2F1FF2C1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D4A2-D81E-4D07-8FB2-0373D90C86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260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nfants and todd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6093000"/>
            <a:ext cx="82072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Plotting and Assessing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Infants and Toddlers </a:t>
            </a:r>
            <a:br>
              <a:rPr sz="4000"/>
            </a:b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up to age of 4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resentation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20000" y="5084640"/>
            <a:ext cx="190476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237360"/>
            <a:ext cx="83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1400" spc="-1" strike="noStrike">
                <a:solidFill>
                  <a:srgbClr val="ff0000"/>
                </a:solidFill>
                <a:latin typeface="Arial"/>
              </a:rPr>
              <a:t>Adapted from training materials of the Royal College of Paediatrics and Child Health [RCPCH]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B636-1B8B-48B9-ABF3-6FE5D54595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Interpreting Body Mass Index (BM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 child whose weight is average for their height will have a BMI between the 25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and 75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ce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Whatever their height cen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BMI above the 91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centile suggests that the child is over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BMI above the 98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centile is very overweight (clinically obe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BMI below the 2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centile is unusual and may reflect under-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80A-2970-4BED-8113-4E0EA00FFC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Body Mass Index (BM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BMI indicates how heavy a child is relative to their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BMI = weight (kg)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÷ height (m)</a:t>
            </a:r>
            <a:r>
              <a:rPr b="0" lang="en-US" sz="32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DD82-9486-4066-B118-BC958A96AB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fter first 2 weeks, if well, weights required only at time of routine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Measure length or height and head whenever concerned about weight gain, growth 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y child with measurement consistently &lt;0.4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centile should be assessed in more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dult height can be predicted from age two using recent height centile using height predi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f weight is above 99.6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centile, BMI should be calculated using BMI lookup from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29C6-0D73-4204-99E7-71C0EBCE3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3" descr="Slide12.WMF"/>
          <p:cNvPicPr/>
          <p:nvPr/>
        </p:nvPicPr>
        <p:blipFill>
          <a:blip r:embed="rId1"/>
          <a:srcRect l="0" t="0" r="0" b="4850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7885080" y="6021360"/>
            <a:ext cx="1008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08000" y="6426360"/>
            <a:ext cx="50328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1961-2A02-412D-8C7D-CFDA004B36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Content Placeholder 3" descr="Slide13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8101080" y="6093000"/>
            <a:ext cx="718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2C0-8967-4728-83CB-400B70B937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Slide14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4000" y="6308640"/>
            <a:ext cx="467964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262C-FE9C-4226-83F8-EE5BDA18AE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When to weig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After the first week and once feeding is established babies usually need to be weighed only when seen for routine health checks, unless there is a conc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irth, 6-8 weeks, and school entry (including measuring BM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opportunistic times include: immunisations and surveillance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8F06-DED4-45DD-AA93-B6A723F29A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99"/>
                </a:solidFill>
                <a:latin typeface="Arial"/>
              </a:rPr>
              <a:t>What is a normal rate of weight gai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ight usually tracks within one cen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cute illness 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eight loss and weight centile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 child’s weight usually returns to its normal centile within 2 to 3 wee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Less than 2% of infants will show a sustained drop through two or more weight centile spaces on the new WHO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These children should be assessed by the primary care team, including measuring length/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16360" y="2565360"/>
            <a:ext cx="288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3BE-626E-4B53-91CA-AC7EAB1314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Length measurements commonly show wide vari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6799320" cy="43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443640" y="2349360"/>
            <a:ext cx="201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Measured length will vary in same child depending on mood of child and style of meas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024-038B-4DD7-91D2-64FBBFB3DF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Length &amp; Height Changes at 2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844640"/>
            <a:ext cx="31687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When a child is measured standing up, the spine is squashed a little so the    child may appear shor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The UK/WHO charts shift down slightly to account        for this when measuring height standing for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35280" y="1484280"/>
            <a:ext cx="5010120" cy="408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67C-4AD5-4889-8E93-89147444BC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What is a normal rate of grow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Measure length or height whenever concerned about weight gain or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Measurements commonly show wid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If worried measure on a few occa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Healthy children usually show a stable general pattern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hat is a normal rate of head grow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Head circumference usually tracks within one cent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Fewer than 1% of infants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</a:rPr>
              <a:t>drop or rise through &gt;2 centile spaces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after the first few 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4211640" y="4797360"/>
            <a:ext cx="3384720" cy="503280"/>
          </a:xfrm>
          <a:prstGeom prst="wedgeRoundRectCallout">
            <a:avLst>
              <a:gd name="adj1" fmla="val -9712"/>
              <a:gd name="adj2" fmla="val 85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11640" y="4797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be carefully ex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80C-4D6A-4BD2-8F0D-8A1FA3CC0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dult height pred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Plot the most recent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ind the corresponding cent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on the adult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our out of he five children wi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be within 6cm of this va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hen an ad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536920" cy="5904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00000" y="2997360"/>
            <a:ext cx="5184720" cy="1439640"/>
          </a:xfrm>
          <a:custGeom>
            <a:avLst/>
            <a:gdLst>
              <a:gd name="textAreaLeft" fmla="*/ 0 w 5184720"/>
              <a:gd name="textAreaRight" fmla="*/ 5185080 w 518472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306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example, if a child is on the 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entile for height, the Adult Height Predictor suggests they may reach an Adult Height of 181cm +/- 6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627-2394-40E2-BBD4-C93991701C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When should a single measurement trigger assess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There is no single threshold below or above which a child’s weight or height is defiantly ab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Further ass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ll children with measurements below 0.4</a:t>
            </a:r>
            <a:r>
              <a:rPr b="0" lang="en-GB" sz="18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cen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Child with height above 99.6</a:t>
            </a:r>
            <a:r>
              <a:rPr b="0" lang="en-GB" sz="18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 centile plus other conc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f weight is above 99.6</a:t>
            </a:r>
            <a:r>
              <a:rPr b="0" lang="en-GB" sz="2400" spc="-1" strike="noStrike" baseline="30000">
                <a:solidFill>
                  <a:srgbClr val="009999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 centile after age 2, lookup BMI cen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964-C71A-4810-A2CD-AF04CD0880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Body Mass Index (BMI) look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Read off the weigh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height centiles from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growth 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Plot the weight cent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(left axis) against the height centile (bottom ax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Read of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corresponding BMI cent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from the slanti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Record centile with 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in the data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Arial"/>
              </a:rPr>
              <a:t>Accurate to ¼ cent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48040" y="1341360"/>
            <a:ext cx="5295960" cy="444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B16-9525-4CDA-B485-C099822DA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4:13:02Z</dcterms:created>
  <dc:creator> Growth Monitoring Training sub-group</dc:creator>
  <dc:description/>
  <dc:language>en-US</dc:language>
  <cp:lastModifiedBy>MRoche</cp:lastModifiedBy>
  <dcterms:modified xsi:type="dcterms:W3CDTF">2012-10-24T14:19:52Z</dcterms:modified>
  <cp:revision>26</cp:revision>
  <dc:subject/>
  <dc:title>Plotting and Assessing  Infants and Toddlers  up to age of 4</dc:title>
</cp:coreProperties>
</file>