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8D3-FD55-4A34-A6E5-25744FC4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0220-308C-4FD4-BC34-70342843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86A-7E2B-40E6-BCF2-978BCF3E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2EE-50AB-42C4-8C7C-1358003C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EDD-ED7C-4648-97A7-5209841F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286-01CE-43C5-BCFD-6A94942C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2C7-DDA5-47F5-A52A-610F0853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60BB-B38D-47F8-9139-8A7BE9BD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E32-3559-402C-8643-E0AB144A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6D0-879D-4089-80AD-7E1BB472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7AA-ED44-48F9-86B0-2BC5291A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84C-05DF-4AC5-B53E-35DD570C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DABA-F7EE-42CC-8BFC-9116C4AB7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Personal Health Record (PHR)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2000-2012</a:t>
            </a:r>
            <a:br>
              <a:rPr sz="3200"/>
            </a:b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esentation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248000" cy="3528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238880" y="508464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2040" y="6165720"/>
            <a:ext cx="81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0000"/>
                </a:solidFill>
                <a:latin typeface="Arial"/>
              </a:rPr>
              <a:t>Adapted from training materials of the Royal College of Paediatrics and Child Health [RCPCH</a:t>
            </a:r>
            <a:r>
              <a:rPr b="1" lang="en-IE" sz="1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0B7-3597-4018-82C0-9382BD7249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Rooster\Desktop\GChart Jul10Revision\FINAL_Revised training materials July 2010\Image changes\New folder\Untitled-14.gif"/>
          <p:cNvPicPr/>
          <p:nvPr/>
        </p:nvPicPr>
        <p:blipFill>
          <a:blip r:embed="rId1"/>
          <a:srcRect l="0" t="0" r="20628" b="0"/>
          <a:stretch/>
        </p:blipFill>
        <p:spPr>
          <a:xfrm>
            <a:off x="395280" y="549360"/>
            <a:ext cx="8520120" cy="53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EAB-0A25-4E5A-AA3F-CD469C8D6B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Rooster\Desktop\GChart Jul10Revision\FINAL_Revised training materials July 2010\Image changes\New folder\Untitled-16.gif"/>
          <p:cNvPicPr/>
          <p:nvPr/>
        </p:nvPicPr>
        <p:blipFill>
          <a:blip r:embed="rId1"/>
          <a:srcRect l="0" t="0" r="16506" b="27657"/>
          <a:stretch/>
        </p:blipFill>
        <p:spPr>
          <a:xfrm>
            <a:off x="539640" y="692280"/>
            <a:ext cx="8034480" cy="547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482-AF69-40D7-BDED-632B592F09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Users\Rooster\Desktop\GChart Jul10Revision\FINAL_Revised training materials July 2010\Image changes\New folder\Untitled-16.gif"/>
          <p:cNvPicPr/>
          <p:nvPr/>
        </p:nvPicPr>
        <p:blipFill>
          <a:blip r:embed="rId1"/>
          <a:srcRect l="0" t="0" r="16877" b="25560"/>
          <a:stretch/>
        </p:blipFill>
        <p:spPr>
          <a:xfrm>
            <a:off x="468360" y="476280"/>
            <a:ext cx="8412120" cy="56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1D8-49D3-4958-B3F7-EBFDB1F921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Rooster\Desktop\GChart Jul10Revision\FINAL_Revised training materials July 2010\Image changes\New folder\Untitled-16.gif"/>
          <p:cNvPicPr/>
          <p:nvPr/>
        </p:nvPicPr>
        <p:blipFill>
          <a:blip r:embed="rId1"/>
          <a:stretch/>
        </p:blipFill>
        <p:spPr>
          <a:xfrm>
            <a:off x="611280" y="404640"/>
            <a:ext cx="7561080" cy="547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A93-EA37-4E60-8A1D-668E9CC6C5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Rooster\Desktop\GChart Jul10Revision\FINAL_Revised training materials July 2010\Image changes\New folder\Untitled-16.gif"/>
          <p:cNvPicPr/>
          <p:nvPr/>
        </p:nvPicPr>
        <p:blipFill>
          <a:blip r:embed="rId1"/>
          <a:stretch/>
        </p:blipFill>
        <p:spPr>
          <a:xfrm>
            <a:off x="468360" y="333360"/>
            <a:ext cx="8064360" cy="61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0F4-9737-49DD-803B-29BFE55DFF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Users\Rooster\Desktop\GChart Jul10Revision\FINAL_Revised training materials July 2010\Image changes\New folder\Untitled-16.gif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85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30B-377B-42F2-8ABA-0A4AB32066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840360" cy="597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F26-DDF6-485C-8CCF-78BD8818D4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The P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 record of child’s health and development held by parents/ca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Has been in use in UK for ~30 years (Red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rish PHR first piloted in former Midwest area in 2000-2012 (Orange/ Giraffe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valuation demonstrated an improvement in service quality – through provision of accurate, timely information and the empowerment of parents in the care of their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ow in use in former Midwest, North East and North West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FBE-F88C-4DC8-A656-BCF07467DE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The P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ame version used across all current implementing areas in Ir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ack of national mandated, coordinated approach and resource constraints has impeded implementation in other HS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waiting national implementation of a shared child data collection tool (?PHR/ ?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hild Growth Foundation growth charts in use in PHR up until implementation of UK-WHO cha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ew UK-WHO growth charts in PHR from Sept 2012 on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3815-A681-40B4-86C9-922A52E24B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9999"/>
                </a:solidFill>
                <a:latin typeface="Arial"/>
              </a:rPr>
              <a:t>Philosophy of P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9999"/>
                </a:solidFill>
                <a:latin typeface="Arial"/>
              </a:rPr>
              <a:t>Parents are the main carers of their children’s health, and as such should have access to as much knowledge as health professionals</a:t>
            </a:r>
            <a:r>
              <a:rPr b="0" lang="en-IE" sz="32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9999"/>
                </a:solidFill>
                <a:latin typeface="Arial"/>
              </a:rPr>
              <a:t>Knowledge empowers and enables consumers to make better use of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308720" y="404640"/>
            <a:ext cx="1513080" cy="14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5F7-FC44-477A-8FDB-B49DAF5295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Use of the recor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Distributed at Primary Visit (Postnatal vis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HN service has responsibility to explain to parents purpose, use and content of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HISP materials (Caring for your Baby/Child) are used to support and augment health promotion material in the P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arents are encouraged to record information about their child’s health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Parents are encouraged to take the PHR with them to every contact with health professio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H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238B-8D08-494C-8FCC-B7886BC9B9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UK-WHO growth charts (PH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Information written fo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easurement record folds out so lies alongside relevan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6 charts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increase viewer to 100%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Birth weight and head 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eight 0-1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Weight 1-4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ength 0-2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eight 2-4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Head circumference 0-2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May be some slight changes from charts shown in the following slides e.g. DOHC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4DB-1613-45D9-B3CE-C6164E8D03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A5 Foldout front"/>
          <p:cNvPicPr/>
          <p:nvPr/>
        </p:nvPicPr>
        <p:blipFill>
          <a:blip r:embed="rId1"/>
          <a:srcRect l="4208" t="8228" r="72035" b="42427"/>
          <a:stretch/>
        </p:blipFill>
        <p:spPr>
          <a:xfrm>
            <a:off x="250920" y="549360"/>
            <a:ext cx="2449440" cy="1895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Rooster\Desktop\GChart Jul10Revision\FINAL_Revised training materials July 2010\Image changes\New folder\Untitled-16.gif"/>
          <p:cNvPicPr/>
          <p:nvPr/>
        </p:nvPicPr>
        <p:blipFill>
          <a:blip r:embed="rId2"/>
          <a:stretch/>
        </p:blipFill>
        <p:spPr>
          <a:xfrm>
            <a:off x="2522520" y="333360"/>
            <a:ext cx="6213600" cy="583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E28-7BD5-4152-922F-B04BC23248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Rooster\Desktop\GChart Jul10Revision\FINAL_Revised training materials July 2010\Image changes\New folder\Untitled-13.gif"/>
          <p:cNvPicPr/>
          <p:nvPr/>
        </p:nvPicPr>
        <p:blipFill>
          <a:blip r:embed="rId1"/>
          <a:stretch/>
        </p:blipFill>
        <p:spPr>
          <a:xfrm>
            <a:off x="179280" y="981000"/>
            <a:ext cx="8748720" cy="477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03A-64A0-4EDD-957F-BE86554FE7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A5 Foldout reverse"/>
          <p:cNvPicPr/>
          <p:nvPr/>
        </p:nvPicPr>
        <p:blipFill>
          <a:blip r:embed="rId1"/>
          <a:srcRect l="0" t="0" r="52296" b="0"/>
          <a:stretch/>
        </p:blipFill>
        <p:spPr>
          <a:xfrm>
            <a:off x="0" y="260280"/>
            <a:ext cx="4500720" cy="3514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5 Girls UKWHO p2"/>
          <p:cNvPicPr/>
          <p:nvPr/>
        </p:nvPicPr>
        <p:blipFill>
          <a:blip r:embed="rId2"/>
          <a:srcRect l="0" t="0" r="3897" b="0"/>
          <a:stretch/>
        </p:blipFill>
        <p:spPr>
          <a:xfrm>
            <a:off x="4535640" y="404640"/>
            <a:ext cx="4429080" cy="327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FBA-8DD0-423A-BB90-FC462719C3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13:33:45Z</dcterms:created>
  <dc:creator>MRoche</dc:creator>
  <dc:description/>
  <dc:language>en-US</dc:language>
  <cp:lastModifiedBy>HSE-SE</cp:lastModifiedBy>
  <dcterms:modified xsi:type="dcterms:W3CDTF">2012-10-08T16:32:39Z</dcterms:modified>
  <cp:revision>6</cp:revision>
  <dc:subject/>
  <dc:title>The Personal Health Record (PHR) 2000-2012</dc:title>
</cp:coreProperties>
</file>