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89E-A389-4058-BD79-40A63EB5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7C7-C2B9-4AD4-88E7-5B7E748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73C-199D-46F0-836B-DBB67C9C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1E7-7911-47D5-90F1-12AC7A7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368-68D0-4AF7-A615-698A4D5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A6F-0288-4CCB-A8DA-D46459B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E16-8F83-4760-8319-E9C8A60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B44-C45A-47D4-995F-653E834D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614-0E6F-4EE5-8FDF-622C266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127-552D-41C2-B0BC-2179000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769-878F-4BF8-8ADC-83B6091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D41-6E2D-47B6-98CD-C21F5B9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B0EA-9973-4E90-B30A-8FFED9CB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Personal Health Record (PHR)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000-2012</a:t>
            </a:r>
            <a:br>
              <a:rPr sz="32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esentatio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248000" cy="35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38880" y="508464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2040" y="6165720"/>
            <a:ext cx="81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Adapted from training materials of the Royal College of Paediatrics and Child Health [RCPCH</a:t>
            </a: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0AA-6738-43AE-AE91-5BDB26B18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Rooster\Desktop\GChart Jul10Revision\FINAL_Revised training materials July 2010\Image changes\New folder\Untitled-14.gif"/>
          <p:cNvPicPr/>
          <p:nvPr/>
        </p:nvPicPr>
        <p:blipFill>
          <a:blip r:embed="rId1"/>
          <a:srcRect l="0" t="0" r="20628" b="0"/>
          <a:stretch/>
        </p:blipFill>
        <p:spPr>
          <a:xfrm>
            <a:off x="395280" y="549360"/>
            <a:ext cx="852012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772-35B9-429F-A4FF-6CA8E4073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rcRect l="0" t="0" r="16506" b="27657"/>
          <a:stretch/>
        </p:blipFill>
        <p:spPr>
          <a:xfrm>
            <a:off x="539640" y="692280"/>
            <a:ext cx="8034480" cy="54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7EB-D9AD-4275-85C2-2B00B1AC6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rcRect l="0" t="0" r="16877" b="25560"/>
          <a:stretch/>
        </p:blipFill>
        <p:spPr>
          <a:xfrm>
            <a:off x="468360" y="476280"/>
            <a:ext cx="841212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A41-8D2F-4A18-90B9-37532E22D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54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1AD-8C91-4904-B53E-A159A07D6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084-0C87-4378-B3A0-B8C501A92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8E1-0CA9-4882-9A3A-237ACCA2E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FCF-3E3A-41DC-8854-14FD365FBF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record of child’s health and development held by parents/c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as been in use in UK for ~30 years (Red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rish PHR first piloted in former Midwest area in 2000-2012 (Orange/ Giraffe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valuation demonstrated an improvement in service quality – through provision of accurate, timely information and the empowerment of parents in the care of thei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ow in use in former Midwest, North East and North Wes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DD4-2DF2-416A-A37D-E5399A0A6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me version used across all current implementing areas in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ck of national mandated, coordinated approach and resource constraints has impeded implementation in other H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waiting national implementation of a shared child data collection tool (?PHR/ ?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ild Growth Foundation growth charts in use in PHR up until implementation of UK-WHO ch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w UK-WHO growth charts in PHR from Sept 2012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B4A-D63C-4E9B-9565-0296FFEA0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9999"/>
                </a:solidFill>
                <a:latin typeface="Arial"/>
              </a:rPr>
              <a:t>Philosophy of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9999"/>
                </a:solidFill>
                <a:latin typeface="Arial"/>
              </a:rPr>
              <a:t>Parents are the main carers of their children’s health, and as such should have access to as much knowledge as health professionals</a:t>
            </a:r>
            <a:r>
              <a:rPr b="0" lang="en-IE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9999"/>
                </a:solidFill>
                <a:latin typeface="Arial"/>
              </a:rPr>
              <a:t>Knowledge empowers and enables consumers to make better use of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513080" cy="14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0CA-E887-4B36-A2EA-23DF06337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se of the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stributed at Primary Visit (Postnatal vis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HN service has responsibility to explain to parents purpose, use and content of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ISP materials (Caring for your Baby/Child) are used to support and augment health promotion material in the P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rents are encouraged to record information about their child’s health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rents are encouraged to take the PHR with them to every contact with health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EDD-4E6C-42CA-A899-39D16AA34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UK-WHO growth charts (PH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formation written fo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ment record folds out so lies alongside relevan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 chart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increase viewer to 100%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rth weight and head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ight 0-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ight 1-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ength 0-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ight 2-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ad circumference 0-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y be some slight changes from charts shown in the following slides e.g. DOHC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818-F35A-4272-AE05-10D1489BD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5 Foldout front"/>
          <p:cNvPicPr/>
          <p:nvPr/>
        </p:nvPicPr>
        <p:blipFill>
          <a:blip r:embed="rId1"/>
          <a:srcRect l="4208" t="8228" r="72035" b="42427"/>
          <a:stretch/>
        </p:blipFill>
        <p:spPr>
          <a:xfrm>
            <a:off x="250920" y="549360"/>
            <a:ext cx="2449440" cy="189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Rooster\Desktop\GChart Jul10Revision\FINAL_Revised training materials July 2010\Image changes\New folder\Untitled-16.gif"/>
          <p:cNvPicPr/>
          <p:nvPr/>
        </p:nvPicPr>
        <p:blipFill>
          <a:blip r:embed="rId2"/>
          <a:stretch/>
        </p:blipFill>
        <p:spPr>
          <a:xfrm>
            <a:off x="2522520" y="333360"/>
            <a:ext cx="621360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3AC-B26D-4233-B91A-23F1E973D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Rooster\Desktop\GChart Jul10Revision\FINAL_Revised training materials July 2010\Image changes\New folder\Untitled-13.gif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77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C4B-2C14-4659-9710-DE83308D1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5 Foldout reverse"/>
          <p:cNvPicPr/>
          <p:nvPr/>
        </p:nvPicPr>
        <p:blipFill>
          <a:blip r:embed="rId1"/>
          <a:srcRect l="0" t="0" r="52296" b="0"/>
          <a:stretch/>
        </p:blipFill>
        <p:spPr>
          <a:xfrm>
            <a:off x="0" y="260280"/>
            <a:ext cx="4500720" cy="35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5 Girls UKWHO p2"/>
          <p:cNvPicPr/>
          <p:nvPr/>
        </p:nvPicPr>
        <p:blipFill>
          <a:blip r:embed="rId2"/>
          <a:srcRect l="0" t="0" r="3897" b="0"/>
          <a:stretch/>
        </p:blipFill>
        <p:spPr>
          <a:xfrm>
            <a:off x="4535640" y="404640"/>
            <a:ext cx="4429080" cy="32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7B4-54CA-418A-81DC-07753AF8E8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3:33:45Z</dcterms:created>
  <dc:creator>MRoche</dc:creator>
  <dc:description/>
  <dc:language>en-US</dc:language>
  <cp:lastModifiedBy>HSE-SE</cp:lastModifiedBy>
  <dcterms:modified xsi:type="dcterms:W3CDTF">2012-10-08T16:32:39Z</dcterms:modified>
  <cp:revision>6</cp:revision>
  <dc:subject/>
  <dc:title>The Personal Health Record (PHR) 2000-2012</dc:title>
</cp:coreProperties>
</file>