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4F1-CCFC-4A67-9C9E-EF0D7543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9E7-92D2-4816-A8BD-F726C17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CBF-64D5-4A43-A2B1-7CA2E526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9A8-8B35-4354-AD02-ED1348CA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63A-CF35-4862-8ED4-226084A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A67-ABD4-4B9C-B09E-72D7D157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8AC-B1B1-40E9-99A2-0A1D8C4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649-7745-40FC-B202-BE6CA090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56A-F980-48D9-9EB6-451EDB7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68E-C200-428F-BCD9-9744612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E8A-4358-4BC2-974A-6154D15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094-ABE8-4F53-B686-9594C59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A5A-B6EC-44A6-9057-131840DF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6028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Measuring and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126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Measuring for Growth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37360"/>
            <a:ext cx="82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dapted from training materials of the Royal College of Paediatrics and Child Health [RCPCH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959-51C5-4B9C-A56D-28C03FEEE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Measuring 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114280" cy="42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1268280"/>
            <a:ext cx="2016000" cy="4608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628640"/>
            <a:ext cx="44640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2997360"/>
            <a:ext cx="4537080" cy="107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4365720"/>
            <a:ext cx="468144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70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bies should be weighed without any clothes or n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314172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ildren older than two years can be weighed in vest and pants, but no shoes, footwear, and dolls or teddies in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36572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 grade 3 clinical electronic scales in metric setting should be used -green sticker with background letter M (which means approved for medical use). Scales should be calibrated and maintained ann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927-D51F-40EF-A3B2-A2B6EB681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easuring Head Circum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48000" cy="181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1484280"/>
            <a:ext cx="5184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78040" cy="247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4149720"/>
            <a:ext cx="5184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422100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</a:rPr>
              <a:t>Measurement should be taken at the maximum occipito-frontal circumference taking the largest of 3 consecutiv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557360"/>
            <a:ext cx="4681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Head circumference should be measured using a narrow non- stretchable plastic or disposable lasso tape. Clean tape with antiseptic wipes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[or soapy water]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between chil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F48-7BB4-4CD0-8FC3-6F2132063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Measuring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easure length before age 2 years if conce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05000"/>
            <a:ext cx="7345440" cy="2664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164360" cy="140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000" y="2276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Use proper equipment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 (length board or mat) as any other method is too inaccurate. 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Requires one measurer and one other adult e.g.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94172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ength should be measured without nappy or footw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615-89B6-4380-9599-AA9329373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Measuring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608280" cy="555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692280"/>
            <a:ext cx="475272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</a:rPr>
              <a:t>Height should be measured from ages 2 years using a rigid rule with T piece, or stadio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</a:rPr>
              <a:t>Ensure heels, bottom, back and head are touching the apparatus with eyes and ears at 9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Don’t try to stretch up, measure on expiration.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</a:rPr>
              <a:t>Take three  successive measurements and use the largest of the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869000"/>
            <a:ext cx="3816360" cy="107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4941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Always measure with shoe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C05-CD50-445C-9D3B-ABB850A1B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Summary: Meas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Whoever measures a child should be suitably trained or be supervised by someone who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Use only class lll electronic scales. Calibrated and maintained ann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Weigh babies naked, toddlers in vest and pants, without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Head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Use narrow, paper or plastic non stretchable tape round widest part of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Length (up to approx ag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Proper equipment essential (length board or 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Training particularly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Shoes and nappy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Height (after age 2 or when child can weight bear independa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Rigid rule with T piece, or stadiometer, shoes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Take three  successive measurements and use the largest of the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04000" y="5229360"/>
            <a:ext cx="68580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D81-A70F-4A5B-AB37-639DDC83E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15:44Z</dcterms:created>
  <dc:creator>Growth monitoring training sub-group</dc:creator>
  <dc:description/>
  <dc:language>en-US</dc:language>
  <cp:lastModifiedBy>MRoche</cp:lastModifiedBy>
  <dcterms:modified xsi:type="dcterms:W3CDTF">2012-10-24T14:16:06Z</dcterms:modified>
  <cp:revision>32</cp:revision>
  <dc:subject/>
  <dc:title>Measuring for growth monitoring</dc:title>
</cp:coreProperties>
</file>