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9397-3A6F-4987-9C17-19F312149C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otential benefits of growth monitoring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ly intervention in growth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ication of and early intervention in chronic disorders associated with abnorm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assurance to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pidemiological data col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insufficient evidence to recommend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overweight and obesity, but growth monitoring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used to establish prevalence 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67E-8B57-4303-A4AB-C4F5AB8F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9558-FF5A-4182-9D57-D8210A51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208-AC7A-4FE1-897F-8A845D6E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69E-557F-4723-A2AE-E7B43FF1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0600-612A-4750-ABE3-5C172F46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2475-49CC-4052-8A76-A90100C5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E73-158E-4697-AD10-C173E52BE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76BD-1174-44C5-8641-0680D952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3BFF-811C-401D-ABE3-7CB582E3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2436-23C8-4634-8462-F2FCEFC5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6C52-329A-4265-B7E8-4C14E3A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2BFC-5549-4F76-8B59-0585205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0AD1-FF12-4C75-AC63-26839388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2CE2-CC45-415E-B9EE-F19D34AF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FA16-95CE-40DE-80AF-9E1CEAE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A58-ACC6-4EE7-9767-DD1DE8EC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93AD-8341-40C0-92C3-818AD060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6FC9-A03D-4983-8BB0-0E38CFB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50A-D2B6-4475-9787-8C43EA9B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08A0-47E9-49A5-9350-B175804A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389-46F6-4893-B717-85E6867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6DC4-4CE7-4BB1-AAF0-582A55E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8C89-3BED-413B-A845-9BF56E99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829-E7D8-47A8-9B51-BC3DB473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88C7-BAAD-4456-AA5F-3585EA289E31}" type="slidenum">
              <a:rPr b="0" lang="en-I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0A2-E08F-4682-83C8-C20BAB72AAD8}" type="slidenum">
              <a:rPr b="0" lang="en-IE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2960" y="1847520"/>
            <a:ext cx="719928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600" spc="-1" strike="noStrike">
                <a:solidFill>
                  <a:srgbClr val="006633"/>
                </a:solidFill>
                <a:latin typeface="Calibri"/>
              </a:rPr>
              <a:t>Rationale for growth monitoring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16360" y="5373720"/>
            <a:ext cx="518472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Why Monitor Growt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Growth is the </a:t>
            </a:r>
            <a:r>
              <a:rPr b="1" lang="en-IE" sz="2600" spc="-1" strike="noStrike">
                <a:solidFill>
                  <a:srgbClr val="000000"/>
                </a:solidFill>
                <a:latin typeface="Arial"/>
              </a:rPr>
              <a:t>most sensitive indicator of heal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000000"/>
                </a:solidFill>
                <a:latin typeface="Arial"/>
              </a:rPr>
              <a:t>normal growth only occurs if a child is healt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Growth assessment is an </a:t>
            </a:r>
            <a:r>
              <a:rPr b="1" lang="en-IE" sz="2600" spc="-1" strike="noStrike">
                <a:solidFill>
                  <a:srgbClr val="000000"/>
                </a:solidFill>
                <a:latin typeface="Arial"/>
              </a:rPr>
              <a:t>essential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part of the examination or investigation of any chil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Allows </a:t>
            </a:r>
            <a:r>
              <a:rPr b="1" lang="en-IE" sz="2600" spc="-1" strike="noStrike">
                <a:solidFill>
                  <a:srgbClr val="000000"/>
                </a:solidFill>
                <a:latin typeface="Arial"/>
              </a:rPr>
              <a:t>objective detection of growth disorders</a:t>
            </a: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 at population level at earliest opportun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Early identification and treatment improves outco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Arial"/>
              </a:rPr>
              <a:t>Identify under or over nutr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What does a growth chart meas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Length for ag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ther an infant is an appropriate length for their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eight for ag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ther an infant is an appropriate weight for their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eight for length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hether the weight and length of an infant are in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ad circumference for ag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formatiom about bra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Issues in Measur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76360" y="2264040"/>
            <a:ext cx="7920000" cy="2288520"/>
            <a:chOff x="576360" y="2264040"/>
            <a:chExt cx="7920000" cy="2288520"/>
          </a:xfrm>
        </p:grpSpPr>
        <p:sp>
          <p:nvSpPr>
            <p:cNvPr id="101" name=""/>
            <p:cNvSpPr/>
            <p:nvPr/>
          </p:nvSpPr>
          <p:spPr>
            <a:xfrm>
              <a:off x="576360" y="2264040"/>
              <a:ext cx="244800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Instrument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Response, sensitivity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– prec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Incorrect calibration, Faulty mechanism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- 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13440" y="2264040"/>
              <a:ext cx="244764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Observer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Within ob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prec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Between ob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- 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48720" y="2264040"/>
              <a:ext cx="2447640" cy="228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800" spc="-1" strike="noStrike">
                  <a:solidFill>
                    <a:srgbClr val="000000"/>
                  </a:solidFill>
                  <a:latin typeface="Arial"/>
                </a:rPr>
                <a:t>Subject Var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Random, biologic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preci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Systematic, temporal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- b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348000" y="105264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ccuracy of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763640" y="126792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126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00720" y="1773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236000" y="1268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0000" y="126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30400" y="6442200"/>
            <a:ext cx="73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6633"/>
                </a:solidFill>
                <a:latin typeface="Arial"/>
              </a:rPr>
              <a:t>Growth Monitoring Training Manual 2012 p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Minimising Err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reful measurements by trained meas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measur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ndardised recording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urate well positioned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ppropriate equipment well maintained and calib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sider Growth data in the overall clinical context of the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areful interpretation – plotting on centile chart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006633"/>
                </a:solidFill>
                <a:latin typeface="Garamond"/>
              </a:rPr>
              <a:t>Minimising Error-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Accuracy is v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Training is critical to accuracy and a successful program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ources required to support ongoing training and aud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Arial"/>
              </a:rPr>
              <a:t>Resources required both physical and personnel for programme delivery at local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33"/>
                </a:solidFill>
                <a:latin typeface="Garamond"/>
              </a:rPr>
              <a:t>National Standards for Growth Monitoring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duced number of mandatory growth monitoring assessm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ir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6 to 8 week che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chool e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t children should be weighed at opportunistic times including birth, at immunisations and during child health surveillance che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ocus on accuracy of measurement, documentation and interpretation of find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630864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6633"/>
                </a:solidFill>
                <a:latin typeface="Arial"/>
              </a:rPr>
              <a:t>Growth Monitoring Training Manual 2012 p30 and Appendix A p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33"/>
                </a:solidFill>
                <a:latin typeface="Garamond"/>
              </a:rPr>
              <a:t>National Standards for Growth Monitoring- Equipment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3274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lectronic self zeroing sc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upine length measure (infantometer or baby ma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in non stretchable tape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eicester height measure (self calibrat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K-WHO (Ireland) Growth 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58760" y="6442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616572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6633"/>
                </a:solidFill>
                <a:latin typeface="Arial"/>
              </a:rPr>
              <a:t>Growth Monitoring Training Manual 2012 p30 and Appendix A p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11:46:36Z</dcterms:created>
  <dc:creator>BGallagher</dc:creator>
  <dc:description/>
  <dc:language>en-US</dc:language>
  <cp:lastModifiedBy>MRoche</cp:lastModifiedBy>
  <dcterms:modified xsi:type="dcterms:W3CDTF">2012-10-24T13:52:11Z</dcterms:modified>
  <cp:revision>71</cp:revision>
  <dc:subject/>
  <dc:title>Growth Monitoring in Ireland</dc:title>
</cp:coreProperties>
</file>